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B3A-9164-46FE-B1A1-6CE03843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6EE-4650-4FC8-8BF6-93676B55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66FDE-B519-4867-AC28-BBB985A7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E5252-8041-48CD-83B7-5C705045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4A29B-16E8-4647-B1FA-507080D1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5EB48-52E7-4757-91FC-E6B0AC2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42DBC-77F0-428A-89C5-BBD2C1A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23334-575E-4B2A-B246-2C6EBEE1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6F86A-DA35-4B73-AA43-B8882904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3DBF7-D12B-47B7-9D66-369527C1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9DADB-D340-4A75-95A7-B82A6A58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09F4C-4A3A-4140-A2BF-18539EF0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2C5-F6A2-4638-A0B7-E65AF5DD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0AA7E-AA64-4F75-BC81-014ED7E8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FAAC3-A809-4326-99F0-D6FB5106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8AF7A-194A-474F-867C-81B0E6FB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942E3-01AD-47BF-85C1-ADE35008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A9D4B-2537-47C6-A719-D4804D8E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0F25F-AD08-4CCF-A442-DCBCAC2A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3F20A-9BAF-4A31-869D-8DD15D45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BD1E1-C75C-4D3B-BD12-C9255F4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48BC1-A905-49F9-9E71-3D5A73E6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F3F9F-220A-406D-9C0C-EB4BB213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CAA-93E6-4D0E-8D77-149FE958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F8B82-6B18-4C9E-AC15-310C67D9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5D97E2-C3E7-43B1-9C40-2A20C0DC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7A4A98-7441-4442-9171-1704364C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0FE9AD-00A6-46F0-B744-442245DF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A0EFCB-B345-472E-81FF-87A98D05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CF5085-C78A-4129-B395-6237C248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E550C1-5A51-4804-BDBC-AD361730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9C0B4E-2C44-44AE-A6FE-0CFAF19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01EB9A-631E-4D05-A443-C26B7FC7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D04D85-70DF-4F1B-823D-F222133C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D583-78A3-469A-9124-6CCFF2FA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FA7283-7C40-4087-900C-8ACF8912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269A71-B548-456F-A5AC-16B7B9F9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3411D7-A583-4207-BDD8-3940EE35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4087-C176-4C8D-9207-AD3643D1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D6D5-3DE3-4CC4-818C-39F8AC17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A251-5F7A-4983-BA67-CEA4FCE3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8ABE-D392-4240-86B8-6F5783A9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689E-3A08-41F3-B6C4-E8194607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FD1E-1B28-4091-88FF-228C71CB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107-E603-4751-8EFC-302404D3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4FD7-90DE-461F-A385-1518F3EC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B124-60FF-4823-9E8B-6C14EE53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63CA-14D9-42F4-B6DD-98774D65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0167-21EA-48CE-869E-7F8A0648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EBC9-6314-4297-9397-720A419B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3BD95-6D75-483C-9A89-723D1253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01F38-43C1-4F5C-B9AD-B6A12C1B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8DDB5-E0BC-4B71-9B61-5E68CEAC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5EAA1-A365-46C4-9776-4A90B06F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D3F4B-E650-49ED-B154-2DF1DCA3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17C-1ADD-4CD8-AA6E-ADDE490A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31E05-A684-4C7F-9577-C6D00C55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BFC55-CBB2-4A16-B663-080C080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40723-84EE-44EB-A4A0-A49A80E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99484-A4E1-4A9D-B29E-B775F5B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9BE63-7872-4D75-A8E8-D132CCBA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5E998-DD94-43B2-AD23-B7DD1513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55DB9-82FD-4DED-BEEC-813D8F04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E6EAB-5FDB-41D0-A4BD-C0C15644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0060-1CB6-4D95-9F82-FFF94D14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A362-D6EE-43E2-A0B2-9EBA314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865-63F5-44DF-93B0-3773EE20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A2C8-EAB3-410C-9877-EBE8E6A1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B5EB-5DE8-4633-A098-B82B80C5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A73E-E751-400A-B648-4FBF2631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A415-A5A6-4E96-A32A-E0C1736D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E83ED-E5A5-4DEE-A62A-A84822A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47FF-A02C-4475-8E51-414B8F97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B97E5-7AB7-4873-B6D7-61D03E7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19CD-E09C-41D2-B437-33E379DC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CB54-C43C-4308-8768-579EFFDE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122E3-9630-4161-9D1B-0D9E1EAF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1FF-ECA7-4A2F-BAAC-2CCF1428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512D-703A-4A34-97BE-7ED3C945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648B-C755-47D5-B631-2DD951E6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1E516-C36B-4ABA-A7E9-B95D4E56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3FD9-E5E7-4C5F-9BE1-D2A73160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15690-E7F2-4E98-A4FA-DA1A81F4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649A-B2D9-42FE-982A-6A10FDEB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31F15-DDC4-48A2-8FBB-7D677C3A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02267-F6C1-4367-91B3-5520E7C3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438F6-232B-46D0-BAA5-1545C31F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FEC3-1A6E-4CC7-9E2B-3FDD50E1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DC6-3F96-46C9-9CB4-AA46746A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9A85-29C8-4003-B27B-0148DEF1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3BD8C-37C3-450D-96EC-54EE9B2A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483E-580F-4BCA-9D06-342A4169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F1952-37F0-4769-B530-94E64F72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CADDF-605C-48C9-8A42-3E9AC1A4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50F2F-A370-4E83-AF96-FA023421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CD134-8D9B-4470-801B-4179B27C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35F24-BC03-4FE3-9BF6-95DEBC41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9ED6-B6A5-4263-B313-55349B60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12DFB-BEBD-4846-B8D5-0F3EBAE3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169-A4A3-4DFC-8BF6-B453AAA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4A5AD-CA34-4ECC-9F2C-AFA3AE2E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52FA1-3432-4DB7-8CA1-6F25ABE0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B212-5D46-454B-B20D-75A70526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FEC3F-C8CE-4AF8-B358-831A80CB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74B15-4174-48EC-9C74-3096E726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C5142-2852-4BE8-8CCC-3001AC88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80E98-76F1-49B9-A2C6-D1320C52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73606-325B-46B7-9393-7E84E91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AE07-6A4D-43B2-999E-7C4D6D94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FC6C0-F0D0-4020-92B1-4F3B6A08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802-4E94-443A-A9D3-4306D9E0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8837D-E48E-40FB-8B89-D7BB6324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AAC5-E6C7-4A17-A941-0759989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2ACFA-AE4A-43DB-BE2F-3301611B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D75D-29E5-4083-9540-0D79066C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94F6-4C23-4159-9204-1BCAD7C5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4E16B-E131-4DBD-B69B-53EF3015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289D0-E711-4F24-8235-C4A4CA91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1924A-DCC5-4FF0-BABC-2E5394E3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5B3CE-B9D9-4338-891B-20C3C599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ADC7-02B8-4891-AA82-06F67AA6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DFE-9F39-45EF-870A-8CC54FA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75A15-DCE6-4429-8DA9-00E9D2B8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AAE81-DD24-4221-96DB-B1CA2E8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0C58B-5D8B-4B18-A867-4D89C34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FC70-C1A1-4175-9E89-9AF1AE1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D4408-5F42-468A-A7C6-180CC356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31FF0-2059-4AAD-BC63-562A32A1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BA8A7-6B14-4DD2-B366-5BD85B23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63247-6A47-4EBA-8524-A6F45305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1076A-EC95-44C0-A26E-E56D7966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2EECF-B2A2-45EE-864C-F58BD771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313D-2F97-4707-A619-326FD9BD00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7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7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8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8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0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2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3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7F3F-CBA8-4090-9072-35303D38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3D87-23E1-4EB5-852E-2916FE8B75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5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2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90EB-1577-4CD8-A77B-9067F84A01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21DB-6F7E-48B3-8272-5572614F9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42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4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5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D2D0-A9B6-4BC6-8628-2A0723D92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CBD1-9E95-4E95-B00C-4B178BED5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FEEE-5528-4601-9A3A-4960E9A3E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8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8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84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8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88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1285-3586-4DCA-AC82-E712D8264C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3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B257-90BA-4378-BDB8-EA3DE8C25D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1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BD3A-B906-4DA9-A6B7-F12B6662D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1599840" y="3277800"/>
            <a:ext cx="22860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2" name="Picture 5" descr="tidalenergy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8"/>
          <p:cNvSpPr/>
          <p:nvPr/>
        </p:nvSpPr>
        <p:spPr>
          <a:xfrm>
            <a:off x="0" y="1522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457200" y="2286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dal Ener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685800" y="61722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reated By Troy and Valeri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idal Energy Work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l Energy produces electricity by hav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arge underwater turbi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areas wi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igh tidal mov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underwater turbin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llect kinetic mo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ides in order to produce electrici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8" name="Picture 5" descr="La-Rance2"/>
          <p:cNvPicPr/>
          <p:nvPr/>
        </p:nvPicPr>
        <p:blipFill>
          <a:blip r:embed="rId1"/>
          <a:stretch/>
        </p:blipFill>
        <p:spPr>
          <a:xfrm>
            <a:off x="4572000" y="1752480"/>
            <a:ext cx="4572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water Turb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water turbines that are put on the ocean floor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ted by the tides which causes the spin blades to prop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urbin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duce electricity which are carried through cab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ocean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5" descr="underwater-ocean-turbine_69"/>
          <p:cNvPicPr/>
          <p:nvPr/>
        </p:nvPicPr>
        <p:blipFill>
          <a:blip r:embed="rId3"/>
          <a:stretch/>
        </p:blipFill>
        <p:spPr>
          <a:xfrm>
            <a:off x="0" y="182880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dvantages of Tidal Energ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95288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very reliable use of energy becau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ides are very consis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ther 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 impact on the cre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idal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Energy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ery afford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Energy is a ver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ean source of Energy, creating no 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http://www.youtube.com/watch?v=4Iq-h4ShZ8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Picture 5" descr="2"/>
          <p:cNvPicPr/>
          <p:nvPr/>
        </p:nvPicPr>
        <p:blipFill>
          <a:blip r:embed="rId1"/>
          <a:stretch/>
        </p:blipFill>
        <p:spPr>
          <a:xfrm>
            <a:off x="0" y="1676520"/>
            <a:ext cx="487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dvantages of Tidal Ener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657240" y="129528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Energy is still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w source of 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whic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stak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still be made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y cause loss of f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s aren’t to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fficient in converting the tidal energy into electric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water turbines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ly be used in large bodies of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 wat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kes turbines corrosive whi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a lot of maintenance. Underwater maintenan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 very expens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" name="Picture 5" descr="deltastream-turbine"/>
          <p:cNvPicPr/>
          <p:nvPr/>
        </p:nvPicPr>
        <p:blipFill>
          <a:blip r:embed="rId1"/>
          <a:stretch/>
        </p:blipFill>
        <p:spPr>
          <a:xfrm>
            <a:off x="0" y="1447920"/>
            <a:ext cx="3746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causes Tides??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114800" y="190512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e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i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alling sea leve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at occur across the glo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ie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er are attrac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each oth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ecause of gravitational pull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Newton’s La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un, mo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ear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ffect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tid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using them to mo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0" name="Picture 5" descr="Dia1"/>
          <p:cNvPicPr/>
          <p:nvPr/>
        </p:nvPicPr>
        <p:blipFill>
          <a:blip r:embed="rId2"/>
          <a:stretch/>
        </p:blipFill>
        <p:spPr>
          <a:xfrm>
            <a:off x="0" y="198108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Why is the Bay of Fundy Uniq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800240" y="13716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nique because there is some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ighest tid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orld located t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Tides can be reach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ight of 11 fe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s where tidal turbine/barrages are used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nce Riv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angford L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rthern Irel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islaya Gub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ss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5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962520" cy="449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8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1:34:23Z</dcterms:created>
  <dc:creator>SASD</dc:creator>
  <dc:description/>
  <dc:language>en-US</dc:language>
  <cp:lastModifiedBy>PA Department of Education Classrooms for the Future</cp:lastModifiedBy>
  <dcterms:modified xsi:type="dcterms:W3CDTF">2011-04-14T12:04:30Z</dcterms:modified>
  <cp:revision>7</cp:revision>
  <dc:subject/>
  <dc:title>Slide 1</dc:title>
</cp:coreProperties>
</file>